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9168"/>
        <c:axId val="75504949"/>
      </c:barChart>
      <c:catAx>
        <c:axId val="5349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04949"/>
        <c:crosses val="autoZero"/>
        <c:auto val="1"/>
        <c:lblAlgn val="ctr"/>
        <c:lblOffset val="100"/>
        <c:noMultiLvlLbl val="0"/>
      </c:catAx>
      <c:valAx>
        <c:axId val="75504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9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9C2-07C8-4134-A3D8-4779B1CB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496-AC90-45D6-8960-829AD23B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D99-7BFB-411B-8CBE-6C1E6DF9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152-47A0-439E-8722-581EECCD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EB7-5727-4BCB-97FF-2F0ABB77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F29-7FEF-47C9-8068-5B97A83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1FD-BC96-445B-ACE5-E5554353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DD9-5F6D-4AF1-AFAA-B1DDA8F7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25E-2D89-4532-8146-D64C6C64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834-D4C4-4467-9B1F-D52217E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8AA-4402-4069-90BA-31F7D56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175-3413-4FA7-AAB7-A5C6444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22AC5-D2DD-49A7-B019-6884DE5558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